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C77-AA62-4615-9EFD-095BC2B0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6B2-FD4B-499F-8086-F1CFDFB3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3D2-12EF-400F-968A-0EC9DD0C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49C-33F1-4FCE-9B06-6007E29C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986-E881-4F05-BC8F-06980E8C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691-9EF3-4D26-89DC-578B0944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872-1598-41F0-B78B-7D5FDA67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D29-A2DD-464B-A974-14D58E06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2AD-009E-4E67-9491-960FED37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BC5-8F67-4ADB-8A40-FC074FC4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055-9716-4AE2-8741-FA010735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345-B9C8-4667-A35E-05389E5F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68B5-D475-4F90-8957-05DDACA12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between Prokaryotes and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1676520"/>
          <a:ext cx="6994440" cy="4572000"/>
        </p:xfrm>
        <a:graphic>
          <a:graphicData uri="http://schemas.openxmlformats.org/drawingml/2006/table">
            <a:tbl>
              <a:tblPr/>
              <a:tblGrid>
                <a:gridCol w="3497400"/>
                <a:gridCol w="3497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NA is small and circ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NA is large and lin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ll regions are coding (except promoters and operator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nsists of coding regions and non-coding reg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ome genes are arranged in ope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o ope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fferences in Transcrip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76520"/>
          <a:ext cx="8077320" cy="3352680"/>
        </p:xfrm>
        <a:graphic>
          <a:graphicData uri="http://schemas.openxmlformats.org/drawingml/2006/table">
            <a:tbl>
              <a:tblPr/>
              <a:tblGrid>
                <a:gridCol w="4076640"/>
                <a:gridCol w="400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upled transcription-tran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ccurs in the nucle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o excision of in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ntrons excised by spliceosomes and exons joined tog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780120" y="4118040"/>
            <a:ext cx="322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fferences in Transl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752480"/>
          <a:ext cx="8077320" cy="3473280"/>
        </p:xfrm>
        <a:graphic>
          <a:graphicData uri="http://schemas.openxmlformats.org/drawingml/2006/table">
            <a:tbl>
              <a:tblPr/>
              <a:tblGrid>
                <a:gridCol w="4076640"/>
                <a:gridCol w="4000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ibosome recognizes Shine-Dalgarno sequence (purine-ric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ribosome recognizes 5' cap on m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maller riboso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arger riboso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irst tRNA carries formyl-methion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irst tRNA carries methion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780120" y="4118040"/>
            <a:ext cx="322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mun.ca/biology/scarr/Gr10-32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53920" y="1143000"/>
            <a:ext cx="7434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cells may have evolved from an endosymbiotic relationship between prokaryotic anc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or the endosymbiotic theory is found in chloroplasts as well as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in Mitochond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al DNA is circular and not membrane-b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al DNA sequence similar to bacterial DNA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a divide by fission (similar to bacte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1:23:39Z</dcterms:created>
  <dc:creator>rubina khan</dc:creator>
  <dc:description/>
  <dc:language>en-US</dc:language>
  <cp:lastModifiedBy>rubina khan</cp:lastModifiedBy>
  <dcterms:modified xsi:type="dcterms:W3CDTF">2011-11-28T18:21:01Z</dcterms:modified>
  <cp:revision>29</cp:revision>
  <dc:subject/>
  <dc:title>Protein Synthesis</dc:title>
</cp:coreProperties>
</file>